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21DB4DE-19C2-4525-AB73-6B229D37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0C63489-8FD6-4148-84DC-DBAE93CB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3900EBB-D42A-4CE3-B28D-47880DB4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7CDB764-AAE7-4180-A609-E625A064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AEE6E4A-35AC-456D-9863-FED41C0C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8864149-50B0-432D-B120-3A76F71FD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8A48AB9-FF34-4805-907B-B4379BF6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8D34B43-7821-4DF0-A735-C4D28D26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4293B19-2FD7-4685-A8D2-5496015E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C2C2C63-2BD1-4DED-9F7F-0ACA9762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2F27A09-4FED-48E0-9C49-778B4B3D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160BF27-D4EE-4F29-B659-A14958ED3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"/>
          <p:cNvSpPr/>
          <p:nvPr/>
        </p:nvSpPr>
        <p:spPr>
          <a:xfrm>
            <a:off x="152280" y="39600"/>
            <a:ext cx="41148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ncient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6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8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0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3461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Teachings of Hindu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Texts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BC, group of Hindus broke away, founded new religion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y teacher Mahavira, Jains thought most Hindus put too much emphasis on r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n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to Jain teaching, idea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him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n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Hindus also practic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him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to same 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ins carefully avoid harming living creatures, are usually veget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tual Unnecess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ins thought ritual un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could achie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giving up worldly things, carefully controlling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57200" y="1143000"/>
            <a:ext cx="8229600" cy="1694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ins promise to tell only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ste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ve to eliminate greed, anger, prejudice, gossip from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ings can prevent person from achie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k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457200" y="2962440"/>
            <a:ext cx="4038120" cy="2980800"/>
            <a:chOff x="457200" y="2962440"/>
            <a:chExt cx="4038120" cy="2980800"/>
          </a:xfrm>
        </p:grpSpPr>
        <p:sp>
          <p:nvSpPr>
            <p:cNvPr id="102" name="Text Box 4"/>
            <p:cNvSpPr/>
            <p:nvPr/>
          </p:nvSpPr>
          <p:spPr>
            <a:xfrm>
              <a:off x="457200" y="3483720"/>
              <a:ext cx="4038120" cy="2459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devout become monks, nuns, give up posse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 outdoors, seek shelter only during rainy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ver mouths with masks, sweep ground to avoid accidentally killing ins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457200" y="2962440"/>
              <a:ext cx="4038120" cy="5212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ifesty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4648320" y="2962440"/>
            <a:ext cx="4038120" cy="2980800"/>
            <a:chOff x="4648320" y="2962440"/>
            <a:chExt cx="4038120" cy="2980800"/>
          </a:xfrm>
        </p:grpSpPr>
        <p:sp>
          <p:nvSpPr>
            <p:cNvPr id="105" name="Text Box 7"/>
            <p:cNvSpPr/>
            <p:nvPr/>
          </p:nvSpPr>
          <p:spPr>
            <a:xfrm>
              <a:off x="4648320" y="3483720"/>
              <a:ext cx="4038120" cy="24595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Jains not monks, nu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edge to uphold principles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hims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have careers that do not involve harming of anim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inism calls for periodic fasting, especially during festivals, on holy days; limiting worldly posse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648320" y="2962440"/>
              <a:ext cx="4038120" cy="5212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ip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412920" y="1251000"/>
            <a:ext cx="8229600" cy="2297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jor principles of Jain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46040" y="3808440"/>
            <a:ext cx="8185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actice nonviolence; tell the truth; do not steal; try to eliminate greed, anger, prejudice, and goss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basic teachings do most Hindus sh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sacred texts and religious practices of Hindu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teachings of Jain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ligion of Hinduism developed and evolved over a long time in India, giving rise to a variety of beliefs and practices and to other religions, including Jai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5302080"/>
            <a:ext cx="8229600" cy="642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 Brahma, Vishnu, Siva -are particularly influential. Some believe in thousands; others worship only one as the true manifestation of Brah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143000"/>
            <a:ext cx="8229600" cy="1313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world’s oldest religion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du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practiced by most people in India today. Hinduism evolved over thousands of years and was influenced by the cultures and traditions of many peoples. However a few fundamental teachings are shared by nearly all Hi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57200" y="2548080"/>
            <a:ext cx="4038120" cy="2655360"/>
            <a:chOff x="457200" y="2548080"/>
            <a:chExt cx="4038120" cy="2655360"/>
          </a:xfrm>
        </p:grpSpPr>
        <p:sp>
          <p:nvSpPr>
            <p:cNvPr id="58" name="Text Box 5"/>
            <p:cNvSpPr/>
            <p:nvPr/>
          </p:nvSpPr>
          <p:spPr>
            <a:xfrm>
              <a:off x="457200" y="3012480"/>
              <a:ext cx="4038120" cy="2190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ong most basic tenets of Hinduism, belief in Brahman, eternal being that created, preserves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hman all-encompa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believe human mind incapable of underst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457200" y="2548080"/>
              <a:ext cx="4038120" cy="4644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ah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7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Teachings of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4648320" y="2548080"/>
            <a:ext cx="4038120" cy="2655360"/>
            <a:chOff x="4648320" y="2548080"/>
            <a:chExt cx="4038120" cy="2655360"/>
          </a:xfrm>
        </p:grpSpPr>
        <p:sp>
          <p:nvSpPr>
            <p:cNvPr id="62" name="Text Box 9"/>
            <p:cNvSpPr/>
            <p:nvPr/>
          </p:nvSpPr>
          <p:spPr>
            <a:xfrm>
              <a:off x="4648320" y="3012480"/>
              <a:ext cx="4038120" cy="2190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ndus believe each person ha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oul, aspect of Brah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hapes personality, cannot be destroyed, even by de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v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manifestations of Brahman, active in world, helping maintain order in 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4648320" y="2548080"/>
              <a:ext cx="4038120" cy="4644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1176480"/>
            <a:ext cx="8229600" cy="134244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tern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dus believe universe, everyone in it, part of continual pattern of birth, death, and re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born in proces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car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4516560"/>
            <a:ext cx="8229600" cy="13996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ha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man leaves world, reunites fully with Brah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o fulfill one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ar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tual duties,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ulfilling dharma, one creates good karma, breaks free from rebirth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2697120"/>
            <a:ext cx="8229600" cy="16740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of person’s new life shap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effect of deeds,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karma, reincarnated to better station in life; bad karma, lower station 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te goal of human existenc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scape from cycle of re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irth and Sa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36680" y="1316160"/>
            <a:ext cx="8229600" cy="2266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how is it central to Hindu teac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36680" y="3778200"/>
            <a:ext cx="8229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cape from cycle of rebirth, reunion with Brahman; ultimate goal for Hindus; way to achie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fulfill one's dh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Hinduism’s evolution stemmed from a number of sacred writings produced over centu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75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achings, practices based on many texts, most sorted into one of three categ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er writings inspired by th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cred ep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sacred hymns of praise, among earliest sacred texts of Hinduis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acred Tex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78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means “knowledge” in Sanskr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ndus consi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o contain eternal knowledge not written by humans, revealed to them by Brahm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date back more than 3,000 ye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idered core of Hinduism even to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Ve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cred Texts an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3352680"/>
            <a:ext cx="8229600" cy="249228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mayana, Mahabh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acred texts based on them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but composed by sages, including two epic poem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may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habh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lls story, reflects on living according to Vedic tea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habhar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ost sacred of all Hindu texts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hagavad G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ddressing many aspects of Hindu belief,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57200" y="714240"/>
            <a:ext cx="8229600" cy="24922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anish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texts that built up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,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anish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believed to have been revealed rather than written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anish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ilosophical reflections on the Vedas, dealing with nature of world, meaning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85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 help meditate, Hindus practice series of integrated physical, mental exercises called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yog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Yoga teaches people how to focus bodies, minds to aid meditation, help attain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moksh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ndus also make pilgrimages to Ganges River to purify, remove bad kar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editation, Pilgrim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88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ndu beliefs vary widely, religious practices vary as well; worship can take place anywhe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t temples, priests might recite, read portions of the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edas;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mage of a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deva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sometimes carried out of temple to peopl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t home, food, drink, gifts offered for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deva;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meditation, silent 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or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ndu Religiou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60360" y="1349280"/>
            <a:ext cx="8229600" cy="2438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sacred texts help shape Hindu belie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2040" y="414648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ritings inspir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cred e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2-01T12:07:49Z</dcterms:modified>
  <cp:revision>256</cp:revision>
  <dc:subject/>
  <dc:title>PowerPoint Presentation</dc:title>
</cp:coreProperties>
</file>